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760F-BBA0-405F-955A-ACBAB300B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6BB1-7313-4568-BFB4-F393287DA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0EE9-6870-4935-B4E5-B4B77878F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A63A-7937-4A93-83E2-11420408AA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9196-FCAC-4F6E-A3D4-3B88C2F451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9232-8231-4DFB-BA49-E5DAD6D37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88CD-F42A-4AED-8534-B90542377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C229-99B1-4387-8820-910456339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6A09-69AF-4796-B646-DFE513392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56ED-DC1B-49E3-8BA6-C3BA62973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05CF-D5F7-4B8C-9A16-261B7F34E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8E4E-54D9-4828-B4B7-7337EF74A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190356D-169E-42A1-973B-8AF52F90D7B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3316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5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 X 5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 X 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X 5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X 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1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5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5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5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5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5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.000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5.0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.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.00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.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5.0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.5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4-22T06:10:12Z</dcterms:modified>
  <cp:revision>2</cp:revision>
  <dc:subject/>
  <dc:title/>
</cp:coreProperties>
</file>